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306-D9B3-4B6E-95D6-D9C2AAAC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952-B847-48A1-A6CD-2F8C669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28F-E42A-4322-B44F-9A03FA00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B0E-2552-4D0D-AE23-61926E79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025-7E42-4B13-B6AE-C1EC55C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DBC-8ACB-4936-BA26-D850A5A4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891-09F9-4CAD-9E9D-D2BACC7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491-5875-4254-94E3-C0DA1D8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F1E-2E96-465B-AC2D-37A3E29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10C-5F8E-4AA2-9395-39065E1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28C-97F7-4CA8-9609-EA061C7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9B5-2B0C-4200-B54D-8290727A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E683-90F7-4A3E-AA48-2C70B153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1066680"/>
            <a:ext cx="6972480" cy="451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1828800"/>
            <a:ext cx="127080" cy="3352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276720" y="4838760"/>
            <a:ext cx="1003320" cy="342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80040" y="3352680"/>
            <a:ext cx="0" cy="1486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36600" y="2323800"/>
            <a:ext cx="343080" cy="10285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7040" y="1866960"/>
            <a:ext cx="799920" cy="457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30:07Z</dcterms:created>
  <dc:creator>cherlynn jones</dc:creator>
  <dc:description/>
  <dc:language>en-US</dc:language>
  <cp:lastModifiedBy>GolliverJ</cp:lastModifiedBy>
  <dcterms:modified xsi:type="dcterms:W3CDTF">2008-03-13T20:15:14Z</dcterms:modified>
  <cp:revision>3</cp:revision>
  <dc:subject/>
  <dc:title>Slide 1</dc:title>
</cp:coreProperties>
</file>